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124-AFC6-47AF-87C7-7449AE37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EE3-C160-4F86-8237-D09C8CBA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368-4B10-419C-8177-697ED03B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C03-B5B2-49DB-AAAC-78EC2AD3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DFD21-054B-48FD-A6F4-37DEAA3B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9E252-8C37-4C22-9652-49921BF3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CF253-939C-4FA3-85AA-40D260F3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BDAE7-9A4E-45E3-B048-20941967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6615D-6F66-4912-89ED-FEEB3B7D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1247C-5D06-44F4-93C1-596DAE1D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397A9-7220-452F-A23D-8FD634E1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FDE-A9CF-466B-B616-10208A8B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2FAAE-3E7C-4BFB-8F80-A8BA7873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F0787-3416-4AD5-B12F-5014F09B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3A3A0-49F0-44BD-BC0F-DB89763E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F76FE-A64F-4959-946D-05FF2F57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1FC20-C56D-42CF-A459-B1011805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45B-C6EE-44E6-AF44-C86EF1F2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187-A990-44B8-B9A8-B8C1AD9D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9BD-C2B3-4026-9DA6-2E1C36ED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364-833E-4B82-AEA7-9C7F7763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BD7-3854-4D88-BD72-C28C328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A93-A541-4E5C-AB61-47358941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9C6-C110-4FDB-98F9-72FB35E8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E304-9307-44D7-89BF-84038C4461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D254-8300-4893-954E-B1146C72A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21106200">
            <a:off x="2057400" y="1600200"/>
            <a:ext cx="4952880" cy="35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oogl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6767640" y="5446800"/>
            <a:ext cx="14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. Aman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7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53341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410080"/>
            <a:ext cx="46483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p-h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onday, October 04, 2010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57600" y="762120"/>
            <a:ext cx="762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Invention: Goog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ey embarked on a project  in 1995 to help computer users search for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e first incarnation of their project dubbed “BackRub” was based on  the pairs assumption that the was already pop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ranslating Google to the web took a lot of mathematic engenenu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e search engins popularity began to grow within a few ye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Inventors: Sergey Brin/ Larry p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rin born in Moscow, Russia August, 21 1973 his father was a  profes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ge born on March 26 in Lansing, Migagin earned a B.A from the university of migagin in 199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rin emergitated to the  U.S. with his family in mary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Pic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page_brin"/>
          <p:cNvPicPr/>
          <p:nvPr/>
        </p:nvPicPr>
        <p:blipFill>
          <a:blip r:embed="rId2"/>
          <a:srcRect l="24325" t="0" r="24325" b="0"/>
          <a:stretch/>
        </p:blipFill>
        <p:spPr>
          <a:xfrm>
            <a:off x="2514600" y="32004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Brin"/>
          <p:cNvPicPr/>
          <p:nvPr/>
        </p:nvPicPr>
        <p:blipFill>
          <a:blip r:embed="rId3"/>
          <a:stretch/>
        </p:blipFill>
        <p:spPr>
          <a:xfrm>
            <a:off x="457200" y="3200400"/>
            <a:ext cx="2057400" cy="2762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page"/>
          <p:cNvPicPr/>
          <p:nvPr/>
        </p:nvPicPr>
        <p:blipFill>
          <a:blip r:embed="rId4"/>
          <a:stretch/>
        </p:blipFill>
        <p:spPr>
          <a:xfrm>
            <a:off x="6629400" y="3200400"/>
            <a:ext cx="2057400" cy="281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3520" y="19810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394000"/>
            <a:ext cx="81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oog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9/29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eb.mit.edu/invent/iow/page_bri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1Z</dcterms:created>
  <dc:creator>install</dc:creator>
  <dc:description/>
  <dc:language>en-US</dc:language>
  <cp:lastModifiedBy>install</cp:lastModifiedBy>
  <dcterms:modified xsi:type="dcterms:W3CDTF">2010-10-14T17:32:46Z</dcterms:modified>
  <cp:revision>11</cp:revision>
  <dc:subject/>
  <dc:title>Slide 1</dc:title>
</cp:coreProperties>
</file>